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</p:sldMasterIdLst>
  <p:notesMasterIdLst>
    <p:notesMasterId r:id="rId21"/>
  </p:notesMasterIdLst>
  <p:sldIdLst>
    <p:sldId id="256" r:id="rId22"/>
    <p:sldId id="257" r:id="rId23"/>
    <p:sldId id="258" r:id="rId24"/>
    <p:sldId id="259" r:id="rId25"/>
    <p:sldId id="260" r:id="rId26"/>
    <p:sldId id="261" r:id="rId27"/>
    <p:sldId id="262" r:id="rId28"/>
    <p:sldId id="263" r:id="rId29"/>
    <p:sldId id="264" r:id="rId30"/>
    <p:sldId id="265" r:id="rId31"/>
    <p:sldId id="266" r:id="rId32"/>
    <p:sldId id="267" r:id="rId33"/>
    <p:sldId id="268" r:id="rId34"/>
    <p:sldId id="269" r:id="rId35"/>
    <p:sldId id="270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notesMaster" Target="notesMasters/notesMaster1.xml"/><Relationship Id="rId22" Type="http://schemas.openxmlformats.org/officeDocument/2006/relationships/slide" Target="slides/slide1.xml"/><Relationship Id="rId23" Type="http://schemas.openxmlformats.org/officeDocument/2006/relationships/slide" Target="slides/slide2.xml"/><Relationship Id="rId24" Type="http://schemas.openxmlformats.org/officeDocument/2006/relationships/slide" Target="slides/slide3.xml"/><Relationship Id="rId25" Type="http://schemas.openxmlformats.org/officeDocument/2006/relationships/slide" Target="slides/slide4.xml"/><Relationship Id="rId26" Type="http://schemas.openxmlformats.org/officeDocument/2006/relationships/slide" Target="slides/slide5.xml"/><Relationship Id="rId27" Type="http://schemas.openxmlformats.org/officeDocument/2006/relationships/slide" Target="slides/slide6.xml"/><Relationship Id="rId28" Type="http://schemas.openxmlformats.org/officeDocument/2006/relationships/slide" Target="slides/slide7.xml"/><Relationship Id="rId29" Type="http://schemas.openxmlformats.org/officeDocument/2006/relationships/slide" Target="slides/slide8.xml"/><Relationship Id="rId30" Type="http://schemas.openxmlformats.org/officeDocument/2006/relationships/slide" Target="slides/slide9.xml"/><Relationship Id="rId31" Type="http://schemas.openxmlformats.org/officeDocument/2006/relationships/slide" Target="slides/slide10.xml"/><Relationship Id="rId32" Type="http://schemas.openxmlformats.org/officeDocument/2006/relationships/slide" Target="slides/slide11.xml"/><Relationship Id="rId33" Type="http://schemas.openxmlformats.org/officeDocument/2006/relationships/slide" Target="slides/slide12.xml"/><Relationship Id="rId34" Type="http://schemas.openxmlformats.org/officeDocument/2006/relationships/slide" Target="slides/slide13.xml"/><Relationship Id="rId35" Type="http://schemas.openxmlformats.org/officeDocument/2006/relationships/slide" Target="slides/slide14.xml"/><Relationship Id="rId36" Type="http://schemas.openxmlformats.org/officeDocument/2006/relationships/slide" Target="slides/slide15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7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 type="dt" idx="4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Open Sans Semibold"/>
              </a:rPr>
              <a:t>Click to move the slide</a:t>
            </a: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PlaceHolder 5"/>
          <p:cNvSpPr>
            <a:spLocks noGrp="1"/>
          </p:cNvSpPr>
          <p:nvPr>
            <p:ph type="ftr" idx="4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PlaceHolder 6"/>
          <p:cNvSpPr>
            <a:spLocks noGrp="1"/>
          </p:cNvSpPr>
          <p:nvPr>
            <p:ph type="sldNum" idx="4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C9A2F-E4CD-4638-A5B6-12A4219A64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219F6-144E-4F31-840B-2AD1B325E3E1}" type="slidenum">
              <a:rPr b="0" lang="en-US" sz="1200" spc="-1" strike="noStrike">
                <a:solidFill>
                  <a:srgbClr val="1a1a1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837" name="PlaceHolder 1"/>
          <p:cNvSpPr>
            <a:spLocks noGrp="1"/>
          </p:cNvSpPr>
          <p:nvPr>
            <p:ph type="sldImg"/>
          </p:nvPr>
        </p:nvSpPr>
        <p:spPr>
          <a:xfrm>
            <a:off x="1093680" y="679320"/>
            <a:ext cx="4627800" cy="3470400"/>
          </a:xfrm>
          <a:prstGeom prst="rect">
            <a:avLst/>
          </a:prstGeom>
          <a:ln w="0">
            <a:noFill/>
          </a:ln>
        </p:spPr>
      </p:sp>
      <p:sp>
        <p:nvSpPr>
          <p:cNvPr id="838" name="PlaceHolder 2"/>
          <p:cNvSpPr>
            <a:spLocks noGrp="1"/>
          </p:cNvSpPr>
          <p:nvPr>
            <p:ph type="body"/>
          </p:nvPr>
        </p:nvSpPr>
        <p:spPr>
          <a:xfrm>
            <a:off x="898200" y="4375080"/>
            <a:ext cx="5016600" cy="40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3B892-9FCE-4DBA-B979-E0E658C5B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1EFE3-B407-4C70-AF5D-AB8622A99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F569E4-6AA1-40E4-A788-27ABB9754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F4295E-2D63-4245-B90E-E6685CE61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766800" y="-152532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algn="ctr">
              <a:lnSpc>
                <a:spcPts val="36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4611F8-97B1-4BFB-8BEF-9D006C025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460BA9-2116-4BD1-951C-61B9DFF1A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E62931-4245-4185-B8D2-B3A43CC8C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4C7340-3E8B-4526-8927-79FD69A89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8A7A80-90BE-428B-B7D6-CBB272694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46E97E-B066-43A8-984D-02C020076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42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0832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777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42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0832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DA609A-41C3-446A-8C4F-67015952C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F483CD-DC7C-4E7F-8FEF-7A345C91C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AB0A8-87C3-4C6D-A4FD-D1A145858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777960" y="-3024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indent="0" algn="ctr">
              <a:lnSpc>
                <a:spcPts val="3600"/>
              </a:lnSpc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363348-DBC9-452F-B2E1-DCB23CFFC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DF967F-A6BB-4A7A-9514-E7B06E3A0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1EE466-4456-400B-9A93-F3DCB0B8B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890DDD-5985-4157-A398-8230EB179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766800" y="-152532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algn="ctr">
              <a:lnSpc>
                <a:spcPts val="36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33002A-9E5E-4B43-BFBD-B3E6C1FF7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07632A-DA96-49A2-A81A-17D78846A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3A3EFA-9BAE-44DF-AE97-174251B6D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35344F-0E38-475D-B8DF-4CCB29730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88380F-6A30-49E5-B287-8A12DB23C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897D29-9EBA-49CC-8E46-EE0794D9C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42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0832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77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42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0832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B8F37-2E17-480B-8670-0A0DB7B28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342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90832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777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342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590832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31E8DC-A44E-48E7-B7D8-DD5145813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6AC32B-7E25-420A-92F1-F282E60C7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subTitle"/>
          </p:nvPr>
        </p:nvSpPr>
        <p:spPr>
          <a:xfrm>
            <a:off x="777960" y="-3024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indent="0" algn="ctr">
              <a:lnSpc>
                <a:spcPts val="3600"/>
              </a:lnSpc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6DB40C-6BDF-4ADB-B4BE-5AE0D58BB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77185A-0A13-4C1F-811E-DA0F47FC0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546249-027F-4DCE-AA2B-F2548D67F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A0A7EF-CB70-45F4-9DD5-54E4AA62F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ubTitle"/>
          </p:nvPr>
        </p:nvSpPr>
        <p:spPr>
          <a:xfrm>
            <a:off x="766800" y="-152532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algn="ctr">
              <a:lnSpc>
                <a:spcPts val="36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F604DE-52DB-44DC-94E3-419041334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68C000-F48F-4588-9EBC-7829F9229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0D9660-BF48-4DAB-851C-197822C7A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CAEB48-39F4-4A61-9A25-E00D9FC47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9C1AED-35E3-4CDD-94A7-8759E76BE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AE7749-08A9-48FC-9C87-95CB57F89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3342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590832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777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51" name="PlaceHolder 6"/>
          <p:cNvSpPr>
            <a:spLocks noGrp="1"/>
          </p:cNvSpPr>
          <p:nvPr>
            <p:ph/>
          </p:nvPr>
        </p:nvSpPr>
        <p:spPr>
          <a:xfrm>
            <a:off x="3342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52" name="PlaceHolder 7"/>
          <p:cNvSpPr>
            <a:spLocks noGrp="1"/>
          </p:cNvSpPr>
          <p:nvPr>
            <p:ph/>
          </p:nvPr>
        </p:nvSpPr>
        <p:spPr>
          <a:xfrm>
            <a:off x="590832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BFB230-1960-44B0-9B20-EE033A488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777960" y="-3024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indent="0" algn="ctr">
              <a:lnSpc>
                <a:spcPts val="3600"/>
              </a:lnSpc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766800" y="-152532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algn="ctr">
              <a:lnSpc>
                <a:spcPts val="36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777960" y="-3024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indent="0" algn="ctr">
              <a:lnSpc>
                <a:spcPts val="3600"/>
              </a:lnSpc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42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0832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777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42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0832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848802-6D3B-482C-9B51-288E3595E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subTitle"/>
          </p:nvPr>
        </p:nvSpPr>
        <p:spPr>
          <a:xfrm>
            <a:off x="777960" y="-3024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indent="0" algn="ctr">
              <a:lnSpc>
                <a:spcPts val="3600"/>
              </a:lnSpc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8F32E7-B534-4CFD-9315-D3C341CCF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C4E1DD-2FF6-434C-BC13-9BBFC9C12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041516-04C1-4BFD-B227-37E178E0B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3FF9D5-C39F-4FC4-BEF7-B17BAC31E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ubTitle"/>
          </p:nvPr>
        </p:nvSpPr>
        <p:spPr>
          <a:xfrm>
            <a:off x="766800" y="-152532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algn="ctr">
              <a:lnSpc>
                <a:spcPts val="36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D3D37A-C554-4083-8916-6156523CA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E62FD7-7B20-4921-8C8C-8D83CE923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1967D8-6C74-4973-B739-7FD436BE8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1DBBC4-66D7-436D-8CD8-47B7C6573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4898CD-D3E0-48EF-BAED-1EA9C33DD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456742-68BC-4CB9-B4BD-90DBDC8F8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342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590832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777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32" name="PlaceHolder 6"/>
          <p:cNvSpPr>
            <a:spLocks noGrp="1"/>
          </p:cNvSpPr>
          <p:nvPr>
            <p:ph/>
          </p:nvPr>
        </p:nvSpPr>
        <p:spPr>
          <a:xfrm>
            <a:off x="3342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33" name="PlaceHolder 7"/>
          <p:cNvSpPr>
            <a:spLocks noGrp="1"/>
          </p:cNvSpPr>
          <p:nvPr>
            <p:ph/>
          </p:nvPr>
        </p:nvSpPr>
        <p:spPr>
          <a:xfrm>
            <a:off x="590832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255E53-7C75-488F-B8AC-AB6A0BD0B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6D202B-A7B0-4824-A055-08CEE0EED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777960" y="-3024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indent="0" algn="ctr">
              <a:lnSpc>
                <a:spcPts val="3600"/>
              </a:lnSpc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4D7100-5247-49C8-A9F3-174DF5DC8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950F24-084F-43DD-96CC-BC3DDDF6A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B6ACBC-35DA-4BFA-ADB1-C81C9AB2F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0DCA45-F9C1-4E94-B6C9-846658C97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766800" y="-152532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algn="ctr">
              <a:lnSpc>
                <a:spcPts val="36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B22F28-42F2-482F-994C-691B77098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220258-B95A-4492-A9F2-92B41D497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4A8A7D-0892-4448-99AB-6EF6B9B3D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276B93-440F-43CF-AE69-1D318E8B4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8F5993-A6E5-4B51-A9FF-27BAB90F0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9BC858-8DC5-47F7-AEF3-32A988E4D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3342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590832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777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3342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590832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9D10A2-0171-4D8F-9B96-F70187AC8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18528E-2846-44E5-8C6C-C97D7CDC4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 type="subTitle"/>
          </p:nvPr>
        </p:nvSpPr>
        <p:spPr>
          <a:xfrm>
            <a:off x="777960" y="-3024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indent="0" algn="ctr">
              <a:lnSpc>
                <a:spcPts val="3600"/>
              </a:lnSpc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372993-087F-4D0A-9585-4128BB804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267F7C-88EE-4053-BC7D-F208E52BB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DDA8DD-8107-4BE0-928E-A6B0AC884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3B2CCE-923F-472C-A540-CE535A6DD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subTitle"/>
          </p:nvPr>
        </p:nvSpPr>
        <p:spPr>
          <a:xfrm>
            <a:off x="766800" y="-152532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algn="ctr">
              <a:lnSpc>
                <a:spcPts val="36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8926E0-F7BE-418C-B98C-B9B600287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619701-8BC7-4093-AB2A-BD0776600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F0AB17-D1F3-4887-95F5-29E54228F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75D79A-5868-4E39-B820-B9660C1F6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910097-064F-4819-ABF6-984B912F3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10" name="PlaceHolder 5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624AE5-C41C-494D-BB15-6197012E6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766800" y="-152532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algn="ctr">
              <a:lnSpc>
                <a:spcPts val="36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3342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590832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/>
          </p:nvPr>
        </p:nvSpPr>
        <p:spPr>
          <a:xfrm>
            <a:off x="777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16" name="PlaceHolder 6"/>
          <p:cNvSpPr>
            <a:spLocks noGrp="1"/>
          </p:cNvSpPr>
          <p:nvPr>
            <p:ph/>
          </p:nvPr>
        </p:nvSpPr>
        <p:spPr>
          <a:xfrm>
            <a:off x="3342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17" name="PlaceHolder 7"/>
          <p:cNvSpPr>
            <a:spLocks noGrp="1"/>
          </p:cNvSpPr>
          <p:nvPr>
            <p:ph/>
          </p:nvPr>
        </p:nvSpPr>
        <p:spPr>
          <a:xfrm>
            <a:off x="590832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10FE6E-1A15-47AD-A8E1-C7D6632DD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EABC3A-2954-4D04-92BE-2CF3689C0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 type="subTitle"/>
          </p:nvPr>
        </p:nvSpPr>
        <p:spPr>
          <a:xfrm>
            <a:off x="777960" y="-3024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indent="0" algn="ctr">
              <a:lnSpc>
                <a:spcPts val="3600"/>
              </a:lnSpc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F41F0F-7634-45DF-B5C4-D57A0F81E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3AD190-BD1B-4FD3-A0D9-861B70593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163801-D1B5-49B1-BB85-8F6E0334F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5C2F83-2F6B-4612-B027-98A94E26C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ubTitle"/>
          </p:nvPr>
        </p:nvSpPr>
        <p:spPr>
          <a:xfrm>
            <a:off x="766800" y="-152532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algn="ctr">
              <a:lnSpc>
                <a:spcPts val="36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35A280-3BDF-4E12-A1F8-19515E08F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084B70-6C93-4BAA-8AA6-4E89B5820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A4A183-9D77-4028-BABB-5D521EE40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3143EC-8E10-49F5-8A51-572288750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11087C-FFBB-47EA-BB1C-DB78FA72E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4081AA-6A0F-4E09-9AD0-D797381D0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3342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590832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57" name="PlaceHolder 5"/>
          <p:cNvSpPr>
            <a:spLocks noGrp="1"/>
          </p:cNvSpPr>
          <p:nvPr>
            <p:ph/>
          </p:nvPr>
        </p:nvSpPr>
        <p:spPr>
          <a:xfrm>
            <a:off x="777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58" name="PlaceHolder 6"/>
          <p:cNvSpPr>
            <a:spLocks noGrp="1"/>
          </p:cNvSpPr>
          <p:nvPr>
            <p:ph/>
          </p:nvPr>
        </p:nvSpPr>
        <p:spPr>
          <a:xfrm>
            <a:off x="3342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59" name="PlaceHolder 7"/>
          <p:cNvSpPr>
            <a:spLocks noGrp="1"/>
          </p:cNvSpPr>
          <p:nvPr>
            <p:ph/>
          </p:nvPr>
        </p:nvSpPr>
        <p:spPr>
          <a:xfrm>
            <a:off x="590832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6D39BB-EABC-4604-AE3C-1C017F8C0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5135609-2AE4-4214-9DCF-13713FDB7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 type="subTitle"/>
          </p:nvPr>
        </p:nvSpPr>
        <p:spPr>
          <a:xfrm>
            <a:off x="777960" y="-3024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indent="0" algn="ctr">
              <a:lnSpc>
                <a:spcPts val="3600"/>
              </a:lnSpc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EE8B939-8B09-4D84-8864-C9F5B97F4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F975CF7-04F1-4D6D-A8A2-EABF96DA0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675C2E6-C4AB-4B2B-94C4-BF79A2D98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E7B5100-227B-4F87-B8E5-54D326306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subTitle"/>
          </p:nvPr>
        </p:nvSpPr>
        <p:spPr>
          <a:xfrm>
            <a:off x="766800" y="-152532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algn="ctr">
              <a:lnSpc>
                <a:spcPts val="36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9FC8298-FC5E-4DA2-ADD1-CCCE31BFD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CD5046A-D36C-4EB6-B832-C3FBBDA91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77960" y="-3024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indent="0" algn="ctr">
              <a:lnSpc>
                <a:spcPts val="3600"/>
              </a:lnSpc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20BB8-51C0-4D6B-B212-D6619BD63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6073FDE-97EC-4150-8975-36E9DB835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73F24F5-5F27-4318-8E4A-71453B544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69FE552-A2E1-4835-998B-5EB3EA495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7D90472-31CF-42E3-9524-6C0706056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3342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590832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777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00" name="PlaceHolder 6"/>
          <p:cNvSpPr>
            <a:spLocks noGrp="1"/>
          </p:cNvSpPr>
          <p:nvPr>
            <p:ph/>
          </p:nvPr>
        </p:nvSpPr>
        <p:spPr>
          <a:xfrm>
            <a:off x="3342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01" name="PlaceHolder 7"/>
          <p:cNvSpPr>
            <a:spLocks noGrp="1"/>
          </p:cNvSpPr>
          <p:nvPr>
            <p:ph/>
          </p:nvPr>
        </p:nvSpPr>
        <p:spPr>
          <a:xfrm>
            <a:off x="590832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11E596D-22AF-4816-B434-110590D38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EE5A363-D9A3-4FEA-9174-F8C8B8146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 type="subTitle"/>
          </p:nvPr>
        </p:nvSpPr>
        <p:spPr>
          <a:xfrm>
            <a:off x="777960" y="-3024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indent="0" algn="ctr">
              <a:lnSpc>
                <a:spcPts val="3600"/>
              </a:lnSpc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7333E9F-EDB1-46BE-9E48-873CAE49C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1036D74-249B-4C04-9D52-CD370710E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75712F8-B507-4099-BC76-E11457B80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AC1A25B-D041-4207-8D61-F6BD8C453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subTitle"/>
          </p:nvPr>
        </p:nvSpPr>
        <p:spPr>
          <a:xfrm>
            <a:off x="766800" y="-152532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algn="ctr">
              <a:lnSpc>
                <a:spcPts val="36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707690D-9C52-475C-B930-AB84DA153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563A4C0-CA50-4F4C-83EB-E7B61814F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AA7953B-6842-43DB-A4E5-64A038747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B18E6D7-CCE2-4CD7-8403-A6A5DED6E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1552EDB-A0E2-45C8-B8A3-A18F4263E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36" name="PlaceHolder 5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CEDC5DD-3389-4B7D-9861-BB74607AD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3342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590832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41" name="PlaceHolder 5"/>
          <p:cNvSpPr>
            <a:spLocks noGrp="1"/>
          </p:cNvSpPr>
          <p:nvPr>
            <p:ph/>
          </p:nvPr>
        </p:nvSpPr>
        <p:spPr>
          <a:xfrm>
            <a:off x="777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42" name="PlaceHolder 6"/>
          <p:cNvSpPr>
            <a:spLocks noGrp="1"/>
          </p:cNvSpPr>
          <p:nvPr>
            <p:ph/>
          </p:nvPr>
        </p:nvSpPr>
        <p:spPr>
          <a:xfrm>
            <a:off x="3342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43" name="PlaceHolder 7"/>
          <p:cNvSpPr>
            <a:spLocks noGrp="1"/>
          </p:cNvSpPr>
          <p:nvPr>
            <p:ph/>
          </p:nvPr>
        </p:nvSpPr>
        <p:spPr>
          <a:xfrm>
            <a:off x="590832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A0FCDB8-D803-4D1F-B710-7C91FBD68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 type="subTitle"/>
          </p:nvPr>
        </p:nvSpPr>
        <p:spPr>
          <a:xfrm>
            <a:off x="777960" y="-3024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indent="0" algn="ctr">
              <a:lnSpc>
                <a:spcPts val="3600"/>
              </a:lnSpc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subTitle"/>
          </p:nvPr>
        </p:nvSpPr>
        <p:spPr>
          <a:xfrm>
            <a:off x="766800" y="-152532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algn="ctr">
              <a:lnSpc>
                <a:spcPts val="36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69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77" name="PlaceHolder 5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3342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590832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/>
          </p:nvPr>
        </p:nvSpPr>
        <p:spPr>
          <a:xfrm>
            <a:off x="777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83" name="PlaceHolder 6"/>
          <p:cNvSpPr>
            <a:spLocks noGrp="1"/>
          </p:cNvSpPr>
          <p:nvPr>
            <p:ph/>
          </p:nvPr>
        </p:nvSpPr>
        <p:spPr>
          <a:xfrm>
            <a:off x="3342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84" name="PlaceHolder 7"/>
          <p:cNvSpPr>
            <a:spLocks noGrp="1"/>
          </p:cNvSpPr>
          <p:nvPr>
            <p:ph/>
          </p:nvPr>
        </p:nvSpPr>
        <p:spPr>
          <a:xfrm>
            <a:off x="590832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42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0832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777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42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0832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777960" y="-3024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indent="0" algn="ctr">
              <a:lnSpc>
                <a:spcPts val="3600"/>
              </a:lnSpc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E51FD-E80F-4546-8DCC-0B77C614A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766800" y="-152532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algn="ctr">
              <a:lnSpc>
                <a:spcPts val="36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342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0832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777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342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0832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777960" y="-3024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indent="0" algn="ctr">
              <a:lnSpc>
                <a:spcPts val="3600"/>
              </a:lnSpc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47C4C-307D-440E-98ED-AFAC56427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766800" y="-152532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algn="ctr">
              <a:lnSpc>
                <a:spcPts val="36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342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90832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777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342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590832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58795-43A7-499E-AB4F-76D1A8F98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DD706-DFC8-4048-9E45-71197BD5A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777960" y="-3024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indent="0" algn="ctr">
              <a:lnSpc>
                <a:spcPts val="3600"/>
              </a:lnSpc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2C651-C9C7-4B65-AFFA-6E0B3BEF4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A32D3-78D0-4CD2-BDCE-2B9C1520F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FFF97-54EF-4171-A069-4953A7BA7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705C6-9E70-49C2-92BA-8BE2F36F2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766800" y="-152532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algn="ctr">
              <a:lnSpc>
                <a:spcPts val="36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41C68-73C0-416D-98B3-3BA4D60EE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429B6-1B22-418D-B863-3D8D02917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5627E-A58C-4965-A8DC-8A35EEFD5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1DDC6-6954-41CE-BF6C-4FC37B10F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0F47D-57D5-43B8-911B-5E9ACA424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639AB-9720-43D1-84E6-6B12E7C10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6800" y="-152532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algn="ctr">
              <a:lnSpc>
                <a:spcPts val="36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468BC-D690-4EE5-8D71-B29D61C08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342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590832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777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342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590832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AC7FA-8904-4E6B-8D5E-21FBB27C7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8EE498-2804-4E25-B0D4-96C798E57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777960" y="-3024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indent="0" algn="ctr">
              <a:lnSpc>
                <a:spcPts val="3600"/>
              </a:lnSpc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2476E7-09D6-4305-B2C2-EFA3E3D46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E42429-6AF8-4FE0-9BAE-A88F50CB5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555707-A035-4747-9F89-96D47E8FA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E74F20-6DFB-44D4-B672-67A1139ED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766800" y="-152532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algn="ctr">
              <a:lnSpc>
                <a:spcPts val="36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8F8DF7-CF72-414D-8561-1C3691964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195B6F-38EC-4BF2-8BDF-4A75EB15B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216223-3E42-45F4-A4ED-D465FCE1B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C57043-EAB9-40FD-A810-890A3D301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65ED5-4A00-42B4-B25D-168D005C5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3A3503-28CD-48D1-934F-FB7AC519C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E9F5F8-CEF4-41F1-AA95-14EDF7C33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342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590832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777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342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590832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B5B823-9845-44CA-A2BA-8496BBF81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583308-C438-4FBD-B2DA-659D8FDEA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777960" y="-3024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indent="0" algn="ctr">
              <a:lnSpc>
                <a:spcPts val="3600"/>
              </a:lnSpc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255288-05FE-40EC-820E-D55E867EB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905362-9976-4894-8D2C-473CDE10D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F894A6-D6EC-4923-AF09-1D31CBA22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2C2DCC-51AA-43DA-8BF2-FD83E2230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ubTitle"/>
          </p:nvPr>
        </p:nvSpPr>
        <p:spPr>
          <a:xfrm>
            <a:off x="766800" y="-152532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algn="ctr">
              <a:lnSpc>
                <a:spcPts val="36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B9C3A2-4B66-488F-BB31-79D85D6A6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1AA911-1A7D-43CE-97C3-DE4EE7933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B7ED9-F08A-4C16-8524-0E30E47C7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4E598A-5403-41F6-AEAF-75AF3628E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8EB69F-2FEB-4D65-9B2C-8CAD52E8D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188AF6-DC86-4FC3-A9D5-D94CCACA8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A9430E-9E3E-45EC-AA63-4AF08F68A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3342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590832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777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83" name="PlaceHolder 6"/>
          <p:cNvSpPr>
            <a:spLocks noGrp="1"/>
          </p:cNvSpPr>
          <p:nvPr>
            <p:ph/>
          </p:nvPr>
        </p:nvSpPr>
        <p:spPr>
          <a:xfrm>
            <a:off x="3342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84" name="PlaceHolder 7"/>
          <p:cNvSpPr>
            <a:spLocks noGrp="1"/>
          </p:cNvSpPr>
          <p:nvPr>
            <p:ph/>
          </p:nvPr>
        </p:nvSpPr>
        <p:spPr>
          <a:xfrm>
            <a:off x="590832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04D21E-F694-4EB6-B949-66010CD66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7469D7-B82D-4FE1-B73E-F0502293F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777960" y="-3024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indent="0" algn="ctr">
              <a:lnSpc>
                <a:spcPts val="3600"/>
              </a:lnSpc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3E7F5E-CB15-4523-BF1E-A269E6520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E3BD38-6AD6-421A-80A2-5F8B8B027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D89358-ED14-4D80-8855-CD6705960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4F77AF-C02D-45C0-8360-5751CA002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A6825-33D6-4D66-BF09-79D13A1EB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766800" y="-152532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algn="ctr">
              <a:lnSpc>
                <a:spcPts val="36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4B99FE-B4DF-4C72-A1E8-1886EF77A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5A7CC0-5D85-4FDC-BFA9-F6161B457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FBBE97-15F4-4E05-8CC1-FE8464420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EA75FD-2B58-4873-AD99-DFC82902E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CF1BA1-6970-400B-B287-A6CCDB05A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223ACC-F1CF-4655-A09E-AC9B2C6A9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342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590832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777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3342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590832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7C7B80-852D-482D-A119-1274E5310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E3EEAF-609A-467E-9BE0-6AE7D1E46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777960" y="-3024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indent="0" algn="ctr">
              <a:lnSpc>
                <a:spcPts val="3600"/>
              </a:lnSpc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AACCAF-E33D-4D15-86BB-F4EAAE681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BD0B6B-199C-4183-9D12-D952216F0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hyperlink" Target="http://www.international-pain-school.org/" TargetMode="External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Open Sans Semibold"/>
              </a:rPr>
              <a:t>Click to edit the title text format</a:t>
            </a: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9280" indent="103751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Click to edit the outline text format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1" marL="582480" indent="33192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con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2" marL="1143000" indent="-22860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Thir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3" marL="1600200" indent="-22860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our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4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if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5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ix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6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ven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77600" y="6443640"/>
            <a:ext cx="2143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3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15800" y="6443640"/>
            <a:ext cx="29149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226200" y="6443640"/>
            <a:ext cx="21384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8bcb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24A34-50F8-4DE3-94CF-5F079E9F4C08}" type="slidenum">
              <a:rPr b="0" lang="en-US" sz="1200" spc="-1" strike="noStrike">
                <a:solidFill>
                  <a:srgbClr val="008bc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ounded Rectangle 5"/>
          <p:cNvSpPr/>
          <p:nvPr/>
        </p:nvSpPr>
        <p:spPr>
          <a:xfrm>
            <a:off x="-66600" y="471600"/>
            <a:ext cx="649080" cy="338040"/>
          </a:xfrm>
          <a:prstGeom prst="roundRect">
            <a:avLst>
              <a:gd name="adj" fmla="val 5398"/>
            </a:avLst>
          </a:prstGeom>
          <a:solidFill>
            <a:srgbClr val="008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Open Sans Semibold"/>
              </a:rPr>
              <a:t>Click to edit the title text format</a:t>
            </a: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9280" indent="103751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Click to edit the outline text format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1" marL="582480" indent="33192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con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2" marL="1143000" indent="-22860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Thir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3" marL="1600200" indent="-22860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our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4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if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5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ix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6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ven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dt" idx="19"/>
          </p:nvPr>
        </p:nvSpPr>
        <p:spPr>
          <a:xfrm>
            <a:off x="777600" y="6443640"/>
            <a:ext cx="2143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3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ftr" idx="20"/>
          </p:nvPr>
        </p:nvSpPr>
        <p:spPr>
          <a:xfrm>
            <a:off x="3115800" y="6443640"/>
            <a:ext cx="29149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sldNum" idx="21"/>
          </p:nvPr>
        </p:nvSpPr>
        <p:spPr>
          <a:xfrm>
            <a:off x="6226200" y="6443640"/>
            <a:ext cx="21384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8bcb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F5ED3-52EF-4DFC-B45B-28588ACA6E2E}" type="slidenum">
              <a:rPr b="0" lang="en-US" sz="1200" spc="-1" strike="noStrike">
                <a:solidFill>
                  <a:srgbClr val="008bc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ounded Rectangle 6"/>
          <p:cNvSpPr/>
          <p:nvPr/>
        </p:nvSpPr>
        <p:spPr>
          <a:xfrm>
            <a:off x="-66600" y="471600"/>
            <a:ext cx="649080" cy="338040"/>
          </a:xfrm>
          <a:prstGeom prst="roundRect">
            <a:avLst>
              <a:gd name="adj" fmla="val 5398"/>
            </a:avLst>
          </a:prstGeom>
          <a:solidFill>
            <a:srgbClr val="008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Open Sans Semibold"/>
              </a:rPr>
              <a:t>Click to edit the title text format</a:t>
            </a: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9280" indent="103751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Click to edit the outline text format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1" marL="582480" indent="33192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con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2" marL="1143000" indent="-22860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Thir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3" marL="1600200" indent="-22860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our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4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if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5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ix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6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ven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 type="dt" idx="22"/>
          </p:nvPr>
        </p:nvSpPr>
        <p:spPr>
          <a:xfrm>
            <a:off x="777600" y="6443640"/>
            <a:ext cx="2143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3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 type="ftr" idx="23"/>
          </p:nvPr>
        </p:nvSpPr>
        <p:spPr>
          <a:xfrm>
            <a:off x="3115800" y="6443640"/>
            <a:ext cx="29149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 type="sldNum" idx="24"/>
          </p:nvPr>
        </p:nvSpPr>
        <p:spPr>
          <a:xfrm>
            <a:off x="6226200" y="6443640"/>
            <a:ext cx="21384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8bcb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58299-143D-4792-B84E-254B33D44F59}" type="slidenum">
              <a:rPr b="0" lang="en-US" sz="1200" spc="-1" strike="noStrike">
                <a:solidFill>
                  <a:srgbClr val="008bc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ounded Rectangle 6"/>
          <p:cNvSpPr/>
          <p:nvPr/>
        </p:nvSpPr>
        <p:spPr>
          <a:xfrm>
            <a:off x="-66600" y="471600"/>
            <a:ext cx="649080" cy="338040"/>
          </a:xfrm>
          <a:prstGeom prst="roundRect">
            <a:avLst>
              <a:gd name="adj" fmla="val 5398"/>
            </a:avLst>
          </a:prstGeom>
          <a:solidFill>
            <a:srgbClr val="008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Open Sans Semibold"/>
              </a:rPr>
              <a:t>Click to edit the title text format</a:t>
            </a: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9280" indent="103751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Click to edit the outline text format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1" marL="582480" indent="33192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con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2" marL="1143000" indent="-22860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Thir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3" marL="1600200" indent="-22860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our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4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if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5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ix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6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ven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ounded Rectangle 2"/>
          <p:cNvSpPr/>
          <p:nvPr/>
        </p:nvSpPr>
        <p:spPr>
          <a:xfrm>
            <a:off x="-66600" y="471600"/>
            <a:ext cx="649080" cy="338040"/>
          </a:xfrm>
          <a:prstGeom prst="roundRect">
            <a:avLst>
              <a:gd name="adj" fmla="val 5398"/>
            </a:avLst>
          </a:prstGeom>
          <a:solidFill>
            <a:srgbClr val="008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Open Sans Semibold"/>
              </a:rPr>
              <a:t>Click to edit the title text format</a:t>
            </a: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9280" indent="103751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Click to edit the outline text format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1" marL="582480" indent="33192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con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2" marL="1143000" indent="-22860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Thir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3" marL="1600200" indent="-22860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our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4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if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5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ix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6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ven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dt" idx="25"/>
          </p:nvPr>
        </p:nvSpPr>
        <p:spPr>
          <a:xfrm>
            <a:off x="777600" y="6443640"/>
            <a:ext cx="2143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3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ftr" idx="26"/>
          </p:nvPr>
        </p:nvSpPr>
        <p:spPr>
          <a:xfrm>
            <a:off x="3115800" y="6443640"/>
            <a:ext cx="29149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sldNum" idx="27"/>
          </p:nvPr>
        </p:nvSpPr>
        <p:spPr>
          <a:xfrm>
            <a:off x="6226200" y="6443640"/>
            <a:ext cx="21384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8bcb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9FC07-04B8-4C55-959D-B1A10BFCCBE6}" type="slidenum">
              <a:rPr b="0" lang="en-US" sz="1200" spc="-1" strike="noStrike">
                <a:solidFill>
                  <a:srgbClr val="008bc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ounded Rectangle 3"/>
          <p:cNvSpPr/>
          <p:nvPr/>
        </p:nvSpPr>
        <p:spPr>
          <a:xfrm>
            <a:off x="-66600" y="471600"/>
            <a:ext cx="649080" cy="338040"/>
          </a:xfrm>
          <a:prstGeom prst="roundRect">
            <a:avLst>
              <a:gd name="adj" fmla="val 5398"/>
            </a:avLst>
          </a:prstGeom>
          <a:solidFill>
            <a:srgbClr val="008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Open Sans Semibold"/>
              </a:rPr>
              <a:t>Click to edit the title text format</a:t>
            </a: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9280" indent="103751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Click to edit the outline text format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1" marL="582480" indent="33192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con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2" marL="1143000" indent="-22860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Thir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3" marL="1600200" indent="-22860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our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4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if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5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ix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6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ven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 type="dt" idx="28"/>
          </p:nvPr>
        </p:nvSpPr>
        <p:spPr>
          <a:xfrm>
            <a:off x="777600" y="6443640"/>
            <a:ext cx="2143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3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 type="ftr" idx="29"/>
          </p:nvPr>
        </p:nvSpPr>
        <p:spPr>
          <a:xfrm>
            <a:off x="3115800" y="6443640"/>
            <a:ext cx="29149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 type="sldNum" idx="30"/>
          </p:nvPr>
        </p:nvSpPr>
        <p:spPr>
          <a:xfrm>
            <a:off x="6226200" y="6443640"/>
            <a:ext cx="21384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8bcb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E5342-948B-450B-A65C-67679A1DB41C}" type="slidenum">
              <a:rPr b="0" lang="en-US" sz="1200" spc="-1" strike="noStrike">
                <a:solidFill>
                  <a:srgbClr val="008bc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ounded Rectangle 4"/>
          <p:cNvSpPr/>
          <p:nvPr/>
        </p:nvSpPr>
        <p:spPr>
          <a:xfrm>
            <a:off x="-66600" y="471600"/>
            <a:ext cx="649080" cy="338040"/>
          </a:xfrm>
          <a:prstGeom prst="roundRect">
            <a:avLst>
              <a:gd name="adj" fmla="val 5398"/>
            </a:avLst>
          </a:prstGeom>
          <a:solidFill>
            <a:srgbClr val="008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Open Sans Semibold"/>
              </a:rPr>
              <a:t>Click to edit the title text format</a:t>
            </a: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9280" indent="103751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Click to edit the outline text format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1" marL="582480" indent="33192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con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2" marL="1143000" indent="-22860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Thir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3" marL="1600200" indent="-22860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our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4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if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5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ix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6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ven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 type="dt" idx="31"/>
          </p:nvPr>
        </p:nvSpPr>
        <p:spPr>
          <a:xfrm>
            <a:off x="777600" y="6443640"/>
            <a:ext cx="2143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3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 type="ftr" idx="32"/>
          </p:nvPr>
        </p:nvSpPr>
        <p:spPr>
          <a:xfrm>
            <a:off x="3115800" y="6443640"/>
            <a:ext cx="29149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581" name="PlaceHolder 5"/>
          <p:cNvSpPr>
            <a:spLocks noGrp="1"/>
          </p:cNvSpPr>
          <p:nvPr>
            <p:ph type="sldNum" idx="33"/>
          </p:nvPr>
        </p:nvSpPr>
        <p:spPr>
          <a:xfrm>
            <a:off x="6226200" y="6443640"/>
            <a:ext cx="21384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8bcb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C2D81-A61A-4458-9044-4C645882E187}" type="slidenum">
              <a:rPr b="0" lang="en-US" sz="1200" spc="-1" strike="noStrike">
                <a:solidFill>
                  <a:srgbClr val="008bc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Rounded Rectangle 4"/>
          <p:cNvSpPr/>
          <p:nvPr/>
        </p:nvSpPr>
        <p:spPr>
          <a:xfrm>
            <a:off x="-66600" y="471600"/>
            <a:ext cx="649080" cy="338040"/>
          </a:xfrm>
          <a:prstGeom prst="roundRect">
            <a:avLst>
              <a:gd name="adj" fmla="val 5398"/>
            </a:avLst>
          </a:prstGeom>
          <a:solidFill>
            <a:srgbClr val="008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Open Sans Semibold"/>
              </a:rPr>
              <a:t>Click to edit the title text format</a:t>
            </a: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9280" indent="103751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Click to edit the outline text format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1" marL="582480" indent="33192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con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2" marL="1143000" indent="-22860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Thir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3" marL="1600200" indent="-22860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our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4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if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5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ix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6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ven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 type="dt" idx="34"/>
          </p:nvPr>
        </p:nvSpPr>
        <p:spPr>
          <a:xfrm>
            <a:off x="777600" y="6443640"/>
            <a:ext cx="2143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3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 type="ftr" idx="35"/>
          </p:nvPr>
        </p:nvSpPr>
        <p:spPr>
          <a:xfrm>
            <a:off x="3115800" y="6443640"/>
            <a:ext cx="29149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623" name="PlaceHolder 5"/>
          <p:cNvSpPr>
            <a:spLocks noGrp="1"/>
          </p:cNvSpPr>
          <p:nvPr>
            <p:ph type="sldNum" idx="36"/>
          </p:nvPr>
        </p:nvSpPr>
        <p:spPr>
          <a:xfrm>
            <a:off x="6226200" y="6443640"/>
            <a:ext cx="21384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8bcb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3D641-8BFE-4734-B653-37825E793884}" type="slidenum">
              <a:rPr b="0" lang="en-US" sz="1200" spc="-1" strike="noStrike">
                <a:solidFill>
                  <a:srgbClr val="008bc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Rounded Rectangle 3"/>
          <p:cNvSpPr/>
          <p:nvPr/>
        </p:nvSpPr>
        <p:spPr>
          <a:xfrm>
            <a:off x="-66600" y="471600"/>
            <a:ext cx="649080" cy="338040"/>
          </a:xfrm>
          <a:prstGeom prst="roundRect">
            <a:avLst>
              <a:gd name="adj" fmla="val 5398"/>
            </a:avLst>
          </a:prstGeom>
          <a:solidFill>
            <a:srgbClr val="008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Open Sans Semibold"/>
              </a:rPr>
              <a:t>Click to edit the title text format</a:t>
            </a: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body"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9280" indent="103751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Click to edit the outline text format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1" marL="582480" indent="33192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con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2" marL="1143000" indent="-22860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Thir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3" marL="1600200" indent="-22860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our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4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if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5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ix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6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ven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 type="dt" idx="37"/>
          </p:nvPr>
        </p:nvSpPr>
        <p:spPr>
          <a:xfrm>
            <a:off x="777600" y="6443640"/>
            <a:ext cx="2143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3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 type="ftr" idx="38"/>
          </p:nvPr>
        </p:nvSpPr>
        <p:spPr>
          <a:xfrm>
            <a:off x="3115800" y="6443640"/>
            <a:ext cx="29149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 type="sldNum" idx="39"/>
          </p:nvPr>
        </p:nvSpPr>
        <p:spPr>
          <a:xfrm>
            <a:off x="6226200" y="6443640"/>
            <a:ext cx="21384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8bcb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BBEA7-D7D7-4757-859A-C0D7FA0A60FA}" type="slidenum">
              <a:rPr b="0" lang="en-US" sz="1200" spc="-1" strike="noStrike">
                <a:solidFill>
                  <a:srgbClr val="008bc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Rounded Rectangle 3"/>
          <p:cNvSpPr/>
          <p:nvPr/>
        </p:nvSpPr>
        <p:spPr>
          <a:xfrm rot="5400000">
            <a:off x="7739280" y="-27720"/>
            <a:ext cx="435240" cy="338040"/>
          </a:xfrm>
          <a:prstGeom prst="roundRect">
            <a:avLst>
              <a:gd name="adj" fmla="val 5398"/>
            </a:avLst>
          </a:prstGeom>
          <a:solidFill>
            <a:srgbClr val="008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Open Sans Semibold"/>
              </a:rPr>
              <a:t>Click to edit the title text format</a:t>
            </a: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 type="body"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9280" indent="103751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Click to edit the outline text format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1" marL="582480" indent="33192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con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2" marL="1143000" indent="-22860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Thir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3" marL="1600200" indent="-22860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our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4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if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5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ix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6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ven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 type="dt" idx="40"/>
          </p:nvPr>
        </p:nvSpPr>
        <p:spPr>
          <a:xfrm>
            <a:off x="777600" y="6443640"/>
            <a:ext cx="2143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3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 type="ftr" idx="41"/>
          </p:nvPr>
        </p:nvSpPr>
        <p:spPr>
          <a:xfrm>
            <a:off x="3115800" y="6443640"/>
            <a:ext cx="29149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707" name="PlaceHolder 5"/>
          <p:cNvSpPr>
            <a:spLocks noGrp="1"/>
          </p:cNvSpPr>
          <p:nvPr>
            <p:ph type="sldNum" idx="42"/>
          </p:nvPr>
        </p:nvSpPr>
        <p:spPr>
          <a:xfrm>
            <a:off x="6226200" y="6443640"/>
            <a:ext cx="21384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8bcb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E00DE-7CFC-4094-B45F-820DE04BF489}" type="slidenum">
              <a:rPr b="0" lang="en-US" sz="1200" spc="-1" strike="noStrike">
                <a:solidFill>
                  <a:srgbClr val="008bc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TextBox 1"/>
          <p:cNvSpPr/>
          <p:nvPr/>
        </p:nvSpPr>
        <p:spPr>
          <a:xfrm>
            <a:off x="607680" y="3475440"/>
            <a:ext cx="6901560" cy="70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600" spc="-1" strike="noStrike">
                <a:solidFill>
                  <a:srgbClr val="858585"/>
                </a:solidFill>
                <a:latin typeface="Open Sans Light"/>
              </a:rPr>
              <a:t>International</a:t>
            </a:r>
            <a:r>
              <a:rPr b="0" lang="de-DE" sz="4600" spc="-1" strike="noStrike">
                <a:solidFill>
                  <a:srgbClr val="858585"/>
                </a:solidFill>
                <a:latin typeface="Open Sans"/>
              </a:rPr>
              <a:t> </a:t>
            </a:r>
            <a:r>
              <a:rPr b="0" lang="de-DE" sz="4600" spc="-1" strike="noStrike">
                <a:solidFill>
                  <a:srgbClr val="858585"/>
                </a:solidFill>
                <a:latin typeface="Open Sans Bold"/>
              </a:rPr>
              <a:t>Pain School</a:t>
            </a:r>
            <a:endParaRPr b="0" lang="en-US" sz="46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745" name="Rounded Rectangle 2"/>
          <p:cNvSpPr/>
          <p:nvPr/>
        </p:nvSpPr>
        <p:spPr>
          <a:xfrm>
            <a:off x="-66600" y="3686040"/>
            <a:ext cx="649080" cy="338400"/>
          </a:xfrm>
          <a:prstGeom prst="roundRect">
            <a:avLst>
              <a:gd name="adj" fmla="val 5398"/>
            </a:avLst>
          </a:prstGeom>
          <a:solidFill>
            <a:srgbClr val="8585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746" name="TextBox 3"/>
          <p:cNvSpPr/>
          <p:nvPr/>
        </p:nvSpPr>
        <p:spPr>
          <a:xfrm>
            <a:off x="777960" y="4487760"/>
            <a:ext cx="758664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1800"/>
              </a:lnSpc>
              <a:tabLst>
                <a:tab algn="l" pos="0"/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Open Sans"/>
              </a:rPr>
              <a:t>More lectures and further information can be found on our project website.</a:t>
            </a:r>
            <a:endParaRPr b="0" lang="en-US" sz="1400" spc="-1" strike="noStrike">
              <a:solidFill>
                <a:srgbClr val="1a1a1a"/>
              </a:solidFill>
              <a:latin typeface="Calibri"/>
            </a:endParaRPr>
          </a:p>
          <a:p>
            <a:pPr>
              <a:lnSpc>
                <a:spcPts val="1800"/>
              </a:lnSpc>
              <a:tabLst>
                <a:tab algn="l" pos="0"/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1400" spc="-1" strike="noStrike" u="sng">
                <a:solidFill>
                  <a:srgbClr val="008bcb"/>
                </a:solidFill>
                <a:uFillTx/>
                <a:latin typeface="Open Sans"/>
                <a:hlinkClick r:id="rId2"/>
              </a:rPr>
              <a:t>www.international-pain-school.org</a:t>
            </a:r>
            <a:endParaRPr b="0" lang="en-US" sz="1400" spc="-1" strike="noStrike">
              <a:solidFill>
                <a:srgbClr val="1a1a1a"/>
              </a:solidFill>
              <a:latin typeface="Calibri"/>
            </a:endParaRPr>
          </a:p>
          <a:p>
            <a:pPr>
              <a:lnSpc>
                <a:spcPts val="1800"/>
              </a:lnSpc>
              <a:tabLst>
                <a:tab algn="l" pos="0"/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1400" spc="-1" strike="noStrike">
              <a:solidFill>
                <a:srgbClr val="1a1a1a"/>
              </a:solidFill>
              <a:latin typeface="Calibri"/>
            </a:endParaRPr>
          </a:p>
          <a:p>
            <a:pPr>
              <a:lnSpc>
                <a:spcPts val="1800"/>
              </a:lnSpc>
              <a:tabLst>
                <a:tab algn="l" pos="0"/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1400" spc="-1" strike="noStrike">
              <a:solidFill>
                <a:srgbClr val="1a1a1a"/>
              </a:solidFill>
              <a:latin typeface="Calibri"/>
            </a:endParaRPr>
          </a:p>
          <a:p>
            <a:pPr>
              <a:lnSpc>
                <a:spcPts val="1800"/>
              </a:lnSpc>
              <a:tabLst>
                <a:tab algn="l" pos="0"/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1400" spc="-1" strike="noStrike">
              <a:solidFill>
                <a:srgbClr val="1a1a1a"/>
              </a:solidFill>
              <a:latin typeface="Calibri"/>
            </a:endParaRPr>
          </a:p>
          <a:p>
            <a:pPr>
              <a:lnSpc>
                <a:spcPts val="1800"/>
              </a:lnSpc>
              <a:tabLst>
                <a:tab algn="l" pos="0"/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1400" spc="-1" strike="noStrike">
              <a:solidFill>
                <a:srgbClr val="1a1a1a"/>
              </a:solidFill>
              <a:latin typeface="Calibri"/>
            </a:endParaRPr>
          </a:p>
          <a:p>
            <a:pPr>
              <a:lnSpc>
                <a:spcPts val="1800"/>
              </a:lnSpc>
              <a:tabLst>
                <a:tab algn="l" pos="0"/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de-DE" sz="1400" spc="-1" strike="noStrike">
                <a:solidFill>
                  <a:srgbClr val="262626"/>
                </a:solidFill>
                <a:latin typeface="Open Sans"/>
              </a:rPr>
              <a:t>© 2013 international-pain-school.org</a:t>
            </a:r>
            <a:endParaRPr b="0" lang="en-US" sz="1400" spc="-1" strike="noStrike">
              <a:solidFill>
                <a:srgbClr val="1a1a1a"/>
              </a:solidFill>
              <a:latin typeface="Calibri"/>
            </a:endParaRPr>
          </a:p>
          <a:p>
            <a:pPr>
              <a:lnSpc>
                <a:spcPts val="1800"/>
              </a:lnSpc>
              <a:tabLst>
                <a:tab algn="l" pos="0"/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14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Open Sans Semibold"/>
              </a:rPr>
              <a:t>Click to edit the title text format</a:t>
            </a: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 type="body"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9280" indent="103751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Click to edit the outline text format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1" marL="582480" indent="33192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con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2" marL="1143000" indent="-22860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Thir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3" marL="1600200" indent="-22860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our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4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if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5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ix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6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ven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607680" y="3475440"/>
            <a:ext cx="6901560" cy="70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600" spc="-1" strike="noStrike">
                <a:solidFill>
                  <a:srgbClr val="1a1a1a"/>
                </a:solidFill>
                <a:latin typeface="Open Sans Light"/>
              </a:rPr>
              <a:t>International</a:t>
            </a:r>
            <a:r>
              <a:rPr b="0" lang="de-DE" sz="4600" spc="-1" strike="noStrike">
                <a:solidFill>
                  <a:srgbClr val="1a1a1a"/>
                </a:solidFill>
                <a:latin typeface="Open Sans"/>
              </a:rPr>
              <a:t> </a:t>
            </a:r>
            <a:r>
              <a:rPr b="0" lang="de-DE" sz="4600" spc="-1" strike="noStrike">
                <a:solidFill>
                  <a:srgbClr val="333333"/>
                </a:solidFill>
                <a:latin typeface="Open Sans Bold"/>
              </a:rPr>
              <a:t>Pain School</a:t>
            </a:r>
            <a:endParaRPr b="0" lang="en-US" sz="46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42" name="Rounded Rectangle 4"/>
          <p:cNvSpPr/>
          <p:nvPr/>
        </p:nvSpPr>
        <p:spPr>
          <a:xfrm>
            <a:off x="-66600" y="3686040"/>
            <a:ext cx="649080" cy="338400"/>
          </a:xfrm>
          <a:prstGeom prst="roundRect">
            <a:avLst>
              <a:gd name="adj" fmla="val 5398"/>
            </a:avLst>
          </a:prstGeom>
          <a:solidFill>
            <a:srgbClr val="008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Open Sans Semibold"/>
              </a:rPr>
              <a:t>Click to edit the title text format</a:t>
            </a: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9280" indent="103751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Click to edit the outline text format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1" marL="582480" indent="33192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con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2" marL="1143000" indent="-22860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Thir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3" marL="1600200" indent="-22860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our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4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if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5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ix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6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ven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ounded Rectangle 4"/>
          <p:cNvSpPr/>
          <p:nvPr/>
        </p:nvSpPr>
        <p:spPr>
          <a:xfrm>
            <a:off x="-66600" y="3686040"/>
            <a:ext cx="649080" cy="338400"/>
          </a:xfrm>
          <a:prstGeom prst="roundRect">
            <a:avLst>
              <a:gd name="adj" fmla="val 5398"/>
            </a:avLst>
          </a:prstGeom>
          <a:solidFill>
            <a:srgbClr val="008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Open Sans Semibold"/>
              </a:rPr>
              <a:t>Click to edit the title text format</a:t>
            </a: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9280" indent="103751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Click to edit the outline text format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1" marL="582480" indent="33192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con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2" marL="1143000" indent="-22860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Thir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3" marL="1600200" indent="-22860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our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4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if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5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ix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6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ven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ounded Rectangle 3"/>
          <p:cNvSpPr/>
          <p:nvPr/>
        </p:nvSpPr>
        <p:spPr>
          <a:xfrm>
            <a:off x="-66600" y="3686040"/>
            <a:ext cx="649080" cy="338400"/>
          </a:xfrm>
          <a:prstGeom prst="roundRect">
            <a:avLst>
              <a:gd name="adj" fmla="val 5398"/>
            </a:avLst>
          </a:prstGeom>
          <a:solidFill>
            <a:srgbClr val="008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Open Sans Semibold"/>
              </a:rPr>
              <a:t>Click to edit the title text format</a:t>
            </a: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9280" indent="103751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Click to edit the outline text format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1" marL="582480" indent="33192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con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2" marL="1143000" indent="-22860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Thir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3" marL="1600200" indent="-22860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our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4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if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5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ix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6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ven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ounded Rectangle 3"/>
          <p:cNvSpPr/>
          <p:nvPr/>
        </p:nvSpPr>
        <p:spPr>
          <a:xfrm>
            <a:off x="-66600" y="471600"/>
            <a:ext cx="649080" cy="338040"/>
          </a:xfrm>
          <a:prstGeom prst="roundRect">
            <a:avLst>
              <a:gd name="adj" fmla="val 5398"/>
            </a:avLst>
          </a:prstGeom>
          <a:solidFill>
            <a:srgbClr val="008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Open Sans Semibold"/>
              </a:rPr>
              <a:t>Click to edit the title text format</a:t>
            </a: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9280" indent="103751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Click to edit the outline text format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1" marL="582480" indent="33192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con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2" marL="1143000" indent="-22860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Thir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3" marL="1600200" indent="-22860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our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4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if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5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ix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6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ven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dt" idx="4"/>
          </p:nvPr>
        </p:nvSpPr>
        <p:spPr>
          <a:xfrm>
            <a:off x="777600" y="6443640"/>
            <a:ext cx="2143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3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 type="ftr" idx="5"/>
          </p:nvPr>
        </p:nvSpPr>
        <p:spPr>
          <a:xfrm>
            <a:off x="3115800" y="6443640"/>
            <a:ext cx="29149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 type="sldNum" idx="6"/>
          </p:nvPr>
        </p:nvSpPr>
        <p:spPr>
          <a:xfrm>
            <a:off x="6226200" y="6443640"/>
            <a:ext cx="21384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8bcb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6BA34-B84D-4450-BF40-A9C3DA655E18}" type="slidenum">
              <a:rPr b="0" lang="en-US" sz="1200" spc="-1" strike="noStrike">
                <a:solidFill>
                  <a:srgbClr val="008bc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ounded Rectangle 4"/>
          <p:cNvSpPr/>
          <p:nvPr/>
        </p:nvSpPr>
        <p:spPr>
          <a:xfrm>
            <a:off x="-66600" y="471600"/>
            <a:ext cx="649080" cy="338040"/>
          </a:xfrm>
          <a:prstGeom prst="roundRect">
            <a:avLst>
              <a:gd name="adj" fmla="val 5398"/>
            </a:avLst>
          </a:prstGeom>
          <a:solidFill>
            <a:srgbClr val="008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Open Sans Semibold"/>
              </a:rPr>
              <a:t>Click to edit the title text format</a:t>
            </a: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9280" indent="103751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Click to edit the outline text format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1" marL="582480" indent="33192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con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2" marL="1143000" indent="-22860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Thir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3" marL="1600200" indent="-22860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our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4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if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5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ix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6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ven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dt" idx="7"/>
          </p:nvPr>
        </p:nvSpPr>
        <p:spPr>
          <a:xfrm>
            <a:off x="777600" y="6443640"/>
            <a:ext cx="2143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3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 type="ftr" idx="8"/>
          </p:nvPr>
        </p:nvSpPr>
        <p:spPr>
          <a:xfrm>
            <a:off x="3115800" y="6443640"/>
            <a:ext cx="29149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 type="sldNum" idx="9"/>
          </p:nvPr>
        </p:nvSpPr>
        <p:spPr>
          <a:xfrm>
            <a:off x="6226200" y="6443640"/>
            <a:ext cx="21384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8bcb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863AA-6D73-480E-918D-E4D1061B44F3}" type="slidenum">
              <a:rPr b="0" lang="en-US" sz="1200" spc="-1" strike="noStrike">
                <a:solidFill>
                  <a:srgbClr val="008bc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ounded Rectangle 3"/>
          <p:cNvSpPr/>
          <p:nvPr/>
        </p:nvSpPr>
        <p:spPr>
          <a:xfrm>
            <a:off x="-66600" y="471600"/>
            <a:ext cx="649080" cy="338040"/>
          </a:xfrm>
          <a:prstGeom prst="roundRect">
            <a:avLst>
              <a:gd name="adj" fmla="val 5398"/>
            </a:avLst>
          </a:prstGeom>
          <a:solidFill>
            <a:srgbClr val="008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Open Sans Semibold"/>
              </a:rPr>
              <a:t>Click to edit the title text format</a:t>
            </a: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9280" indent="103751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Click to edit the outline text format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1" marL="582480" indent="33192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con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2" marL="1143000" indent="-22860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Thir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3" marL="1600200" indent="-22860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our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4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if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5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ix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6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ven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 type="dt" idx="10"/>
          </p:nvPr>
        </p:nvSpPr>
        <p:spPr>
          <a:xfrm>
            <a:off x="777600" y="6443640"/>
            <a:ext cx="2143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3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 type="ftr" idx="11"/>
          </p:nvPr>
        </p:nvSpPr>
        <p:spPr>
          <a:xfrm>
            <a:off x="3115800" y="6443640"/>
            <a:ext cx="29149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 type="sldNum" idx="12"/>
          </p:nvPr>
        </p:nvSpPr>
        <p:spPr>
          <a:xfrm>
            <a:off x="6226200" y="6443640"/>
            <a:ext cx="21384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8bcb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3FAC6-9E48-4188-A922-656FB64F084D}" type="slidenum">
              <a:rPr b="0" lang="en-US" sz="1200" spc="-1" strike="noStrike">
                <a:solidFill>
                  <a:srgbClr val="008bc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ounded Rectangle 4"/>
          <p:cNvSpPr/>
          <p:nvPr/>
        </p:nvSpPr>
        <p:spPr>
          <a:xfrm>
            <a:off x="-66600" y="471600"/>
            <a:ext cx="649080" cy="338040"/>
          </a:xfrm>
          <a:prstGeom prst="roundRect">
            <a:avLst>
              <a:gd name="adj" fmla="val 5398"/>
            </a:avLst>
          </a:prstGeom>
          <a:solidFill>
            <a:srgbClr val="008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Open Sans Semibold"/>
              </a:rPr>
              <a:t>Click to edit the title text format</a:t>
            </a: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9280" indent="103751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Click to edit the outline text format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1" marL="582480" indent="33192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con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2" marL="1143000" indent="-22860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Thir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3" marL="1600200" indent="-22860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our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4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if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5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ix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6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ven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 type="dt" idx="13"/>
          </p:nvPr>
        </p:nvSpPr>
        <p:spPr>
          <a:xfrm>
            <a:off x="777600" y="6443640"/>
            <a:ext cx="2143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3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 type="ftr" idx="14"/>
          </p:nvPr>
        </p:nvSpPr>
        <p:spPr>
          <a:xfrm>
            <a:off x="3115800" y="6443640"/>
            <a:ext cx="29149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 type="sldNum" idx="15"/>
          </p:nvPr>
        </p:nvSpPr>
        <p:spPr>
          <a:xfrm>
            <a:off x="6226200" y="6443640"/>
            <a:ext cx="21384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8bcb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8F75C-4706-457D-90CB-5BB9E30213CA}" type="slidenum">
              <a:rPr b="0" lang="en-US" sz="1200" spc="-1" strike="noStrike">
                <a:solidFill>
                  <a:srgbClr val="008bc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ounded Rectangle 6"/>
          <p:cNvSpPr/>
          <p:nvPr/>
        </p:nvSpPr>
        <p:spPr>
          <a:xfrm>
            <a:off x="-66600" y="471600"/>
            <a:ext cx="649080" cy="338040"/>
          </a:xfrm>
          <a:prstGeom prst="roundRect">
            <a:avLst>
              <a:gd name="adj" fmla="val 5398"/>
            </a:avLst>
          </a:prstGeom>
          <a:solidFill>
            <a:srgbClr val="008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Open Sans Semibold"/>
              </a:rPr>
              <a:t>Click to edit the title text format</a:t>
            </a: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9280" indent="103751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Click to edit the outline text format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1" marL="582480" indent="33192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con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2" marL="1143000" indent="-22860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Thir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3" marL="1600200" indent="-22860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our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4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if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5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ix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6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ven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16"/>
          </p:nvPr>
        </p:nvSpPr>
        <p:spPr>
          <a:xfrm>
            <a:off x="777600" y="6443640"/>
            <a:ext cx="2143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3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17"/>
          </p:nvPr>
        </p:nvSpPr>
        <p:spPr>
          <a:xfrm>
            <a:off x="3115800" y="6443640"/>
            <a:ext cx="29149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18"/>
          </p:nvPr>
        </p:nvSpPr>
        <p:spPr>
          <a:xfrm>
            <a:off x="6226200" y="6443640"/>
            <a:ext cx="21384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8bcb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EED8D-9A65-4FFE-AF16-336AC94BA646}" type="slidenum">
              <a:rPr b="0" lang="en-US" sz="1200" spc="-1" strike="noStrike">
                <a:solidFill>
                  <a:srgbClr val="008bc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768240" y="438120"/>
            <a:ext cx="7586640" cy="83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Open Sans Semibold"/>
              </a:rPr>
              <a:t>Integration of Palliative Care</a:t>
            </a: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823" name=""/>
          <p:cNvSpPr txBox="1"/>
          <p:nvPr/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-287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Palliative care can be a part of symptom management from the time of diagnosis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  <a:p>
            <a:pPr marL="287280" indent="-287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When there are no curative options, focus medications and treatments on comfort only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  <a:p>
            <a:pPr marL="287280" indent="-287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Dosing of pain medication, such as opioids, has no upper limit-especially at then end of life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  <a:p>
            <a:pPr marL="287280" indent="-287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Treat all aspects of the patient as their greatest suffering may not be from physical pai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  <a:p>
            <a:pPr marL="287280" indent="-287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768240" y="438120"/>
            <a:ext cx="7586640" cy="83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Open Sans Semibold"/>
              </a:rPr>
              <a:t>Remember</a:t>
            </a: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825" name=""/>
          <p:cNvSpPr txBox="1"/>
          <p:nvPr/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-287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Palliative Care and symptom management only requires attention to what the patient needs, regular re-assessment, and access to medication. 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  <a:p>
            <a:pPr marL="287280" indent="-287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High-quality palliative care does not require any high-tech materials or equipment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  <a:p>
            <a:pPr marL="287280" indent="-287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Everyone can provide palliative care to those in need, especially at the end of life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"/>
          <p:cNvSpPr/>
          <p:nvPr/>
        </p:nvSpPr>
        <p:spPr>
          <a:xfrm>
            <a:off x="685800" y="457200"/>
            <a:ext cx="758664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Open Sans Semibold"/>
              </a:rPr>
              <a:t>This talk was originally prepared by:</a:t>
            </a:r>
            <a:endParaRPr b="0" lang="en-US" sz="32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827" name=""/>
          <p:cNvSpPr/>
          <p:nvPr/>
        </p:nvSpPr>
        <p:spPr>
          <a:xfrm>
            <a:off x="468360" y="1676520"/>
            <a:ext cx="842472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84000"/>
          </a:bodyPr>
          <a:p>
            <a:pPr marL="150480" indent="7878600">
              <a:lnSpc>
                <a:spcPct val="100000"/>
              </a:lnSpc>
              <a:tabLst>
                <a:tab algn="l" pos="0"/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3600" spc="-1" strike="noStrike">
                <a:solidFill>
                  <a:srgbClr val="1a1a1a"/>
                </a:solidFill>
                <a:latin typeface="Open Sans"/>
                <a:ea typeface="Times New Roman"/>
              </a:rPr>
              <a:t>  </a:t>
            </a:r>
            <a:r>
              <a:rPr b="0" lang="en-US" sz="3600" spc="-1" strike="noStrike">
                <a:solidFill>
                  <a:srgbClr val="1a1a1a"/>
                </a:solidFill>
                <a:latin typeface="Open Sans"/>
                <a:ea typeface="Times New Roman"/>
              </a:rPr>
              <a:t>Jamie Laubisch MD &amp; Justin Baker MD</a:t>
            </a:r>
            <a:endParaRPr b="0" lang="en-US" sz="3600" spc="-1" strike="noStrike">
              <a:solidFill>
                <a:srgbClr val="1a1a1a"/>
              </a:solidFill>
              <a:latin typeface="Calibri"/>
            </a:endParaRPr>
          </a:p>
          <a:p>
            <a:pPr marL="150480" indent="7878600">
              <a:lnSpc>
                <a:spcPct val="100000"/>
              </a:lnSpc>
              <a:tabLst>
                <a:tab algn="l" pos="0"/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i="1" lang="en-US" sz="2400" spc="-1" strike="noStrike">
                <a:solidFill>
                  <a:srgbClr val="1a1a1a"/>
                </a:solidFill>
                <a:latin typeface="Open Sans"/>
                <a:ea typeface="Times New Roman"/>
              </a:rPr>
              <a:t>   </a:t>
            </a:r>
            <a:endParaRPr b="0" lang="en-US" sz="2400" spc="-1" strike="noStrike">
              <a:solidFill>
                <a:srgbClr val="1a1a1a"/>
              </a:solidFill>
              <a:latin typeface="Calibri"/>
            </a:endParaRPr>
          </a:p>
          <a:p>
            <a:pPr marL="150480" indent="7878600">
              <a:lnSpc>
                <a:spcPct val="100000"/>
              </a:lnSpc>
              <a:tabLst>
                <a:tab algn="l" pos="0"/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i="1" lang="en-US" sz="2400" spc="-1" strike="noStrike">
                <a:solidFill>
                  <a:srgbClr val="1a1a1a"/>
                </a:solidFill>
                <a:latin typeface="Open Sans"/>
                <a:ea typeface="Times New Roman"/>
              </a:rPr>
              <a:t>   </a:t>
            </a:r>
            <a:r>
              <a:rPr b="0" i="1" lang="en-US" sz="2400" spc="-1" strike="noStrike">
                <a:solidFill>
                  <a:srgbClr val="1a1a1a"/>
                </a:solidFill>
                <a:latin typeface="Open Sans"/>
                <a:ea typeface="Times New Roman"/>
              </a:rPr>
              <a:t>Memphis, USA</a:t>
            </a:r>
            <a:endParaRPr b="0" lang="en-US" sz="2400" spc="-1" strike="noStrike">
              <a:solidFill>
                <a:srgbClr val="1a1a1a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Text Box 8"/>
          <p:cNvSpPr/>
          <p:nvPr/>
        </p:nvSpPr>
        <p:spPr>
          <a:xfrm>
            <a:off x="611280" y="907920"/>
            <a:ext cx="807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77777"/>
                </a:solidFill>
                <a:latin typeface="Calibri"/>
              </a:rPr>
              <a:t>Talks in the International Pain School include the following: </a:t>
            </a: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829" name="Rectangle 10"/>
          <p:cNvSpPr/>
          <p:nvPr/>
        </p:nvSpPr>
        <p:spPr>
          <a:xfrm>
            <a:off x="609480" y="380880"/>
            <a:ext cx="556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7777"/>
                </a:solidFill>
                <a:latin typeface="Arial"/>
              </a:rPr>
              <a:t>International Pain School</a:t>
            </a:r>
            <a:endParaRPr b="0" lang="en-US" sz="32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830" name="Text Box 8"/>
          <p:cNvSpPr/>
          <p:nvPr/>
        </p:nvSpPr>
        <p:spPr>
          <a:xfrm>
            <a:off x="611280" y="907920"/>
            <a:ext cx="807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77777"/>
                </a:solidFill>
                <a:latin typeface="Calibri"/>
              </a:rPr>
              <a:t>Talks in the International Pain School include the following: </a:t>
            </a: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831" name="Rectangle 10"/>
          <p:cNvSpPr/>
          <p:nvPr/>
        </p:nvSpPr>
        <p:spPr>
          <a:xfrm>
            <a:off x="609480" y="380880"/>
            <a:ext cx="556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7777"/>
                </a:solidFill>
                <a:latin typeface="Arial"/>
              </a:rPr>
              <a:t>International Pain School</a:t>
            </a:r>
            <a:endParaRPr b="0" lang="en-US" sz="3200" spc="-1" strike="noStrike">
              <a:solidFill>
                <a:srgbClr val="1a1a1a"/>
              </a:solidFill>
              <a:latin typeface="Calibri"/>
            </a:endParaRPr>
          </a:p>
        </p:txBody>
      </p:sp>
      <p:graphicFrame>
        <p:nvGraphicFramePr>
          <p:cNvPr id="832" name=""/>
          <p:cNvGraphicFramePr/>
          <p:nvPr/>
        </p:nvGraphicFramePr>
        <p:xfrm>
          <a:off x="684360" y="1266840"/>
          <a:ext cx="7696080" cy="4983120"/>
        </p:xfrm>
        <a:graphic>
          <a:graphicData uri="http://schemas.openxmlformats.org/drawingml/2006/table">
            <a:tbl>
              <a:tblPr/>
              <a:tblGrid>
                <a:gridCol w="4260600"/>
                <a:gridCol w="3435480"/>
              </a:tblGrid>
              <a:tr h="389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hysiology and pathophysiology of pain</a:t>
                      </a:r>
                      <a:endParaRPr b="0" lang="en-US" sz="1200" spc="-1" strike="noStrike">
                        <a:solidFill>
                          <a:srgbClr val="1a1a1a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1a1a1a"/>
                          </a:solidFill>
                          <a:latin typeface="Arial"/>
                          <a:ea typeface="Times New Roman"/>
                        </a:rPr>
                        <a:t>Nilesh Patel, PhD, Kenya</a:t>
                      </a:r>
                      <a:endParaRPr b="0" lang="en-US" sz="1200" spc="-1" strike="noStrike">
                        <a:solidFill>
                          <a:srgbClr val="1a1a1a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ssessment of pain &amp;  taking a pain history</a:t>
                      </a:r>
                      <a:endParaRPr b="0" lang="en-US" sz="1200" spc="-1" strike="noStrike">
                        <a:solidFill>
                          <a:srgbClr val="1a1a1a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1a1a1a"/>
                          </a:solidFill>
                          <a:latin typeface="Arial"/>
                          <a:ea typeface="Times New Roman"/>
                        </a:rPr>
                        <a:t>Yohannes Woubished, M.D, Addis Ababa, Ethiopia</a:t>
                      </a:r>
                      <a:endParaRPr b="0" lang="en-US" sz="1200" spc="-1" strike="noStrike">
                        <a:solidFill>
                          <a:srgbClr val="1a1a1a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inical pharmacology of analgesics</a:t>
                      </a:r>
                      <a:endParaRPr b="0" lang="en-US" sz="1200" spc="-1" strike="noStrike">
                        <a:solidFill>
                          <a:srgbClr val="1a1a1a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nd non-pharmacological treatments</a:t>
                      </a:r>
                      <a:endParaRPr b="0" lang="en-US" sz="1200" spc="-1" strike="noStrike">
                        <a:solidFill>
                          <a:srgbClr val="1a1a1a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1a1a1a"/>
                          </a:solidFill>
                          <a:latin typeface="Arial"/>
                          <a:ea typeface="Times New Roman"/>
                        </a:rPr>
                        <a:t>Ramani Vijayan, M.D. Kuala Lumpur, Malaysia</a:t>
                      </a:r>
                      <a:endParaRPr b="0" lang="en-US" sz="1200" spc="-1" strike="noStrike">
                        <a:solidFill>
                          <a:srgbClr val="1a1a1a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stoperative – low technology treatment methods</a:t>
                      </a:r>
                      <a:endParaRPr b="0" lang="en-US" sz="1200" spc="-1" strike="noStrike">
                        <a:solidFill>
                          <a:srgbClr val="1a1a1a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1a1a1a"/>
                          </a:solidFill>
                          <a:latin typeface="Arial"/>
                          <a:ea typeface="Times New Roman"/>
                        </a:rPr>
                        <a:t>Dominique Fletcher, M.D, Garches &amp; Xavier Lassalle, RN, MSF, Paris, France</a:t>
                      </a:r>
                      <a:endParaRPr b="0" lang="en-US" sz="1200" spc="-1" strike="noStrike">
                        <a:solidFill>
                          <a:srgbClr val="1a1a1a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1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stoperative– high treatment technology methods</a:t>
                      </a:r>
                      <a:endParaRPr b="0" lang="en-US" sz="1200" spc="-1" strike="noStrike">
                        <a:solidFill>
                          <a:srgbClr val="1a1a1a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1a1a1a"/>
                          </a:solidFill>
                          <a:latin typeface="Arial"/>
                          <a:ea typeface="Times New Roman"/>
                        </a:rPr>
                        <a:t>Narinder Rawal, M.D. PhD, FRCA(Hon), Orebro, Sweden</a:t>
                      </a:r>
                      <a:endParaRPr b="0" lang="en-US" sz="1200" spc="-1" strike="noStrike">
                        <a:solidFill>
                          <a:srgbClr val="1a1a1a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1a1a1a"/>
                          </a:solidFill>
                          <a:latin typeface="Arial"/>
                          <a:ea typeface="Times New Roman"/>
                        </a:rPr>
                        <a:t>Cancer pain– low technology treatment methods</a:t>
                      </a:r>
                      <a:endParaRPr b="0" lang="en-US" sz="1200" spc="-1" strike="noStrike">
                        <a:solidFill>
                          <a:srgbClr val="1a1a1a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1a1a1a"/>
                          </a:solidFill>
                          <a:latin typeface="Arial"/>
                          <a:ea typeface="Times New Roman"/>
                        </a:rPr>
                        <a:t>Barbara Kleinmann, MD, Freiburg, Germany</a:t>
                      </a:r>
                      <a:endParaRPr b="0" lang="en-US" sz="1200" spc="-1" strike="noStrike">
                        <a:solidFill>
                          <a:srgbClr val="1a1a1a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ancer pain– high technology treatment methods</a:t>
                      </a:r>
                      <a:endParaRPr b="0" lang="en-US" sz="1200" spc="-1" strike="noStrike">
                        <a:solidFill>
                          <a:srgbClr val="1a1a1a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1a1a1a"/>
                          </a:solidFill>
                          <a:latin typeface="Arial"/>
                          <a:ea typeface="Times New Roman"/>
                        </a:rPr>
                        <a:t>Jamie Laubisch MD, Justin Baker MD, Doralina Anghelescu MD, Memphis, USA</a:t>
                      </a:r>
                      <a:endParaRPr b="0" lang="en-US" sz="1200" spc="-1" strike="noStrike">
                        <a:solidFill>
                          <a:srgbClr val="1a1a1a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alliative Care</a:t>
                      </a:r>
                      <a:endParaRPr b="0" lang="en-US" sz="1200" spc="-1" strike="noStrike">
                        <a:solidFill>
                          <a:srgbClr val="1a1a1a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1a1a1a"/>
                          </a:solidFill>
                          <a:latin typeface="Arial"/>
                          <a:ea typeface="Times New Roman"/>
                        </a:rPr>
                        <a:t>Jamie Laubisch MD, Justin Baker MD, Memphis, USA</a:t>
                      </a:r>
                      <a:endParaRPr b="0" lang="en-US" sz="1200" spc="-1" strike="noStrike">
                        <a:solidFill>
                          <a:srgbClr val="1a1a1a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europathic pain - low technology treatment methods</a:t>
                      </a:r>
                      <a:endParaRPr b="0" lang="en-US" sz="1200" spc="-1" strike="noStrike">
                        <a:solidFill>
                          <a:srgbClr val="1a1a1a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1a1a1a"/>
                          </a:solidFill>
                          <a:latin typeface="Arial"/>
                          <a:ea typeface="Times New Roman"/>
                        </a:rPr>
                        <a:t>Maija Haanpää, MD, Helsinki &amp; Aki Hietaharju, Tampere, Finland</a:t>
                      </a:r>
                      <a:endParaRPr b="0" lang="en-US" sz="1200" spc="-1" strike="noStrike">
                        <a:solidFill>
                          <a:srgbClr val="1a1a1a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europathic pain – high technology treatment methods</a:t>
                      </a:r>
                      <a:endParaRPr b="0" lang="en-US" sz="1200" spc="-1" strike="noStrike">
                        <a:solidFill>
                          <a:srgbClr val="1a1a1a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1a1a1a"/>
                          </a:solidFill>
                          <a:latin typeface="Arial"/>
                          <a:ea typeface="Times New Roman"/>
                        </a:rPr>
                        <a:t>Maija Haanpää, M.D., Helsinki &amp; Aki Hietaharju, M.D.,  Tampere, Finland</a:t>
                      </a:r>
                      <a:endParaRPr b="0" lang="en-US" sz="1200" spc="-1" strike="noStrike">
                        <a:solidFill>
                          <a:srgbClr val="1a1a1a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sychological aspects of managing pain</a:t>
                      </a:r>
                      <a:endParaRPr b="0" lang="en-US" sz="1200" spc="-1" strike="noStrike">
                        <a:solidFill>
                          <a:srgbClr val="1a1a1a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1a1a1a"/>
                          </a:solidFill>
                          <a:latin typeface="Arial"/>
                          <a:ea typeface="Times New Roman"/>
                        </a:rPr>
                        <a:t>Etleva Gjoni, Germany </a:t>
                      </a:r>
                      <a:endParaRPr b="0" lang="en-US" sz="1200" spc="-1" strike="noStrike">
                        <a:solidFill>
                          <a:srgbClr val="1a1a1a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pecial Management Challenges</a:t>
                      </a:r>
                      <a:endParaRPr b="0" lang="en-US" sz="1200" spc="-1" strike="noStrike">
                        <a:solidFill>
                          <a:srgbClr val="1a1a1a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1a1a1a"/>
                          </a:solidFill>
                          <a:latin typeface="Arial"/>
                          <a:ea typeface="Times New Roman"/>
                        </a:rPr>
                        <a:t>Debra Gordon, RN, DNP, FAAN, Seattle, USA</a:t>
                      </a:r>
                      <a:endParaRPr b="0" lang="en-US" sz="1200" spc="-1" strike="noStrike">
                        <a:solidFill>
                          <a:srgbClr val="1a1a1a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Rectangle 2"/>
          <p:cNvSpPr/>
          <p:nvPr/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7777"/>
                </a:solidFill>
                <a:latin typeface="Open Sans Semibold"/>
              </a:rPr>
              <a:t>International Pain School</a:t>
            </a:r>
            <a:endParaRPr b="0" lang="en-US" sz="3200" spc="-1" strike="noStrike">
              <a:solidFill>
                <a:srgbClr val="1a1a1a"/>
              </a:solidFill>
              <a:latin typeface="Calibri"/>
            </a:endParaRPr>
          </a:p>
        </p:txBody>
      </p:sp>
      <p:pic>
        <p:nvPicPr>
          <p:cNvPr id="834" name="Picture 6" descr=""/>
          <p:cNvPicPr/>
          <p:nvPr/>
        </p:nvPicPr>
        <p:blipFill>
          <a:blip r:embed="rId1"/>
          <a:stretch/>
        </p:blipFill>
        <p:spPr>
          <a:xfrm>
            <a:off x="762120" y="3048120"/>
            <a:ext cx="7954920" cy="3325680"/>
          </a:xfrm>
          <a:prstGeom prst="rect">
            <a:avLst/>
          </a:prstGeom>
          <a:ln w="0">
            <a:noFill/>
          </a:ln>
        </p:spPr>
      </p:pic>
      <p:sp>
        <p:nvSpPr>
          <p:cNvPr id="835" name="Rectangle 4"/>
          <p:cNvSpPr/>
          <p:nvPr/>
        </p:nvSpPr>
        <p:spPr>
          <a:xfrm>
            <a:off x="919440" y="1981080"/>
            <a:ext cx="503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77777"/>
                </a:solidFill>
                <a:latin typeface="Arial"/>
                <a:ea typeface="Arial"/>
              </a:rPr>
              <a:t>The project is supported by these organizations:</a:t>
            </a: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2916000" y="4941360"/>
            <a:ext cx="5337000" cy="57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i="1" lang="en-US" sz="2400" spc="-1" strike="noStrike">
                <a:solidFill>
                  <a:srgbClr val="3399ff"/>
                </a:solidFill>
                <a:latin typeface="Open Sans"/>
              </a:rPr>
              <a:t>Type in the name of your institution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algn="r">
              <a:lnSpc>
                <a:spcPts val="3600"/>
              </a:lnSpc>
              <a:tabLst>
                <a:tab algn="l" pos="0"/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1476000" y="4149720"/>
            <a:ext cx="6800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ts val="3600"/>
              </a:lnSpc>
              <a:buNone/>
              <a:tabLst>
                <a:tab algn="l" pos="0"/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i="1" lang="en-US" sz="2800" spc="-1" strike="noStrike">
                <a:solidFill>
                  <a:srgbClr val="3399ff"/>
                </a:solidFill>
                <a:latin typeface="Open Sans"/>
              </a:rPr>
              <a:t>Type in your name</a:t>
            </a:r>
            <a:endParaRPr b="0" lang="en-US" sz="2800" spc="-1" strike="noStrike">
              <a:solidFill>
                <a:srgbClr val="1a1a1a"/>
              </a:solidFill>
              <a:latin typeface="Open Sans"/>
            </a:endParaRPr>
          </a:p>
          <a:p>
            <a:pPr indent="0" algn="r">
              <a:lnSpc>
                <a:spcPts val="3600"/>
              </a:lnSpc>
              <a:buNone/>
              <a:tabLst>
                <a:tab algn="l" pos="0"/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8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1476000" y="3284280"/>
            <a:ext cx="6800760" cy="79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/>
          </a:bodyPr>
          <a:p>
            <a:pPr indent="0" algn="r">
              <a:lnSpc>
                <a:spcPts val="3600"/>
              </a:lnSpc>
              <a:buNone/>
              <a:tabLst>
                <a:tab algn="l" pos="0"/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4600" spc="-1" strike="noStrike">
                <a:solidFill>
                  <a:srgbClr val="1a1a1a"/>
                </a:solidFill>
                <a:latin typeface="Open Sans"/>
              </a:rPr>
              <a:t>Palliative Care</a:t>
            </a:r>
            <a:endParaRPr b="0" lang="en-US" sz="46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768240" y="438120"/>
            <a:ext cx="7586640" cy="83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796" name=""/>
          <p:cNvSpPr txBox="1"/>
          <p:nvPr/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-287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pic>
        <p:nvPicPr>
          <p:cNvPr id="797" name="Picture 6" descr="http://1.bp.blogspot.com/_f2I8sVbYok0/TCAm4wO8HrI/AAAAAAAACCQ/w-9D41FN3OQ/s1600/holding+hands.jpg"/>
          <p:cNvPicPr/>
          <p:nvPr/>
        </p:nvPicPr>
        <p:blipFill>
          <a:blip r:embed="rId1"/>
          <a:srcRect l="5915" t="5843" r="6089" b="6326"/>
          <a:stretch/>
        </p:blipFill>
        <p:spPr>
          <a:xfrm>
            <a:off x="-66600" y="0"/>
            <a:ext cx="9210600" cy="6875640"/>
          </a:xfrm>
          <a:prstGeom prst="rect">
            <a:avLst/>
          </a:prstGeom>
          <a:ln w="0">
            <a:noFill/>
          </a:ln>
        </p:spPr>
      </p:pic>
      <p:sp>
        <p:nvSpPr>
          <p:cNvPr id="798" name="Rounded Rectangle 4"/>
          <p:cNvSpPr/>
          <p:nvPr/>
        </p:nvSpPr>
        <p:spPr>
          <a:xfrm>
            <a:off x="-66600" y="471600"/>
            <a:ext cx="649080" cy="338040"/>
          </a:xfrm>
          <a:prstGeom prst="roundRect">
            <a:avLst>
              <a:gd name="adj" fmla="val 5398"/>
            </a:avLst>
          </a:prstGeom>
          <a:solidFill>
            <a:srgbClr val="008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768240" y="438120"/>
            <a:ext cx="7586640" cy="83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Open Sans Semibold"/>
              </a:rPr>
              <a:t>What is Palliative Care?</a:t>
            </a: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800" name=""/>
          <p:cNvSpPr txBox="1"/>
          <p:nvPr/>
        </p:nvSpPr>
        <p:spPr>
          <a:xfrm>
            <a:off x="777960" y="2301840"/>
            <a:ext cx="75866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-287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Active total care of the patient…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  <a:p>
            <a:pPr marL="287280" indent="-287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Begins at diagnosis, and continues regardless of whether or not a patient receives treatment directed </a:t>
            </a:r>
            <a:br>
              <a:rPr sz="2200"/>
            </a:b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at the disease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  <a:p>
            <a:pPr marL="287280" indent="-287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Health providers must evaluate and alleviate a child's physical, psychological, and social distress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  <a:p>
            <a:pPr marL="287280" indent="-287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Requires a broad interdisciplinary approach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  <a:p>
            <a:pPr marL="287280" indent="-287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777960" y="1368000"/>
            <a:ext cx="758664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i="1" lang="en-US" sz="2400" spc="-1" strike="noStrike">
                <a:solidFill>
                  <a:srgbClr val="333333"/>
                </a:solidFill>
                <a:latin typeface="Open Sans Semibold"/>
              </a:rPr>
              <a:t>WHO definition of palliative care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768240" y="438120"/>
            <a:ext cx="7586640" cy="83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Open Sans Semibold"/>
              </a:rPr>
              <a:t>What is Palliative Care?</a:t>
            </a: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803" name=""/>
          <p:cNvSpPr txBox="1"/>
          <p:nvPr/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ts val="3600"/>
              </a:lnSpc>
              <a:tabLst>
                <a:tab algn="l" pos="0"/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ja-JP" sz="2200" spc="-1" strike="noStrike">
                <a:solidFill>
                  <a:srgbClr val="1a1a1a"/>
                </a:solidFill>
                <a:latin typeface="Open Sans"/>
              </a:rPr>
              <a:t>“</a:t>
            </a: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The art and science of patient and family-centered care aimed at attending to suffering, promoting healing and improving quality of life</a:t>
            </a:r>
            <a:r>
              <a:rPr b="0" lang="ja-JP" sz="2200" spc="-1" strike="noStrike">
                <a:solidFill>
                  <a:srgbClr val="1a1a1a"/>
                </a:solidFill>
                <a:latin typeface="Open Sans"/>
              </a:rPr>
              <a:t>”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  <a:p>
            <a:pPr>
              <a:lnSpc>
                <a:spcPts val="3600"/>
              </a:lnSpc>
              <a:tabLst>
                <a:tab algn="l" pos="0"/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  <a:p>
            <a:pPr>
              <a:lnSpc>
                <a:spcPts val="3600"/>
              </a:lnSpc>
              <a:tabLst>
                <a:tab algn="l" pos="0"/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The goal is to add life to the patient</a:t>
            </a:r>
            <a:r>
              <a:rPr b="0" lang="ja-JP" sz="2200" spc="-1" strike="noStrike">
                <a:solidFill>
                  <a:srgbClr val="1a1a1a"/>
                </a:solidFill>
                <a:latin typeface="Open Sans"/>
              </a:rPr>
              <a:t>’</a:t>
            </a: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s years, not simply years to the their life …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  <a:p>
            <a:pPr>
              <a:lnSpc>
                <a:spcPts val="3600"/>
              </a:lnSpc>
              <a:tabLst>
                <a:tab algn="l" pos="0"/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768240" y="438120"/>
            <a:ext cx="7586640" cy="83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Open Sans Semibold"/>
              </a:rPr>
              <a:t>Why is it so important?</a:t>
            </a: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805" name=""/>
          <p:cNvSpPr txBox="1"/>
          <p:nvPr/>
        </p:nvSpPr>
        <p:spPr>
          <a:xfrm>
            <a:off x="762120" y="114300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281520" indent="-28152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We cannot cure or save everyone and we will </a:t>
            </a:r>
            <a:br>
              <a:rPr sz="2200"/>
            </a:b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all die someday.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  <a:p>
            <a:pPr marL="281520" indent="-28152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When resources are limited or unavailable, </a:t>
            </a:r>
            <a:br>
              <a:rPr sz="2200"/>
            </a:b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every patient should have the benefit of symptom management, especially at the end of life.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  <a:p>
            <a:pPr marL="281520" indent="-28152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Opioids should be available for all patients to </a:t>
            </a:r>
            <a:br>
              <a:rPr sz="2200"/>
            </a:b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help alleviate pain and suffering, although not </a:t>
            </a:r>
            <a:br>
              <a:rPr sz="2200"/>
            </a:b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currently the case.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  <a:p>
            <a:pPr marL="281520" indent="-28152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Palliative care and symptom management does not require high-tech medicine, but may be achieved anywhere with education and dedication.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768240" y="438120"/>
            <a:ext cx="7586640" cy="83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Open Sans Semibold"/>
              </a:rPr>
              <a:t>Aspects of Palliative Care</a:t>
            </a: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807" name=""/>
          <p:cNvSpPr txBox="1"/>
          <p:nvPr/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-287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Provide comfort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  <a:p>
            <a:pPr marL="287280" indent="-287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Foster interpersonal relationships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  <a:p>
            <a:pPr marL="287280" indent="-287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Emotional support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  <a:p>
            <a:pPr marL="287280" indent="-287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Social support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  <a:p>
            <a:pPr marL="287280" indent="-287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Spiritual support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  <a:p>
            <a:pPr marL="287280" indent="-287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Bereavement care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768240" y="438120"/>
            <a:ext cx="7586640" cy="83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Open Sans Semibold"/>
              </a:rPr>
              <a:t>Totality of Personhood</a:t>
            </a: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809" name=""/>
          <p:cNvSpPr txBox="1"/>
          <p:nvPr/>
        </p:nvSpPr>
        <p:spPr>
          <a:xfrm>
            <a:off x="777960" y="5867280"/>
            <a:ext cx="7586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algn="ctr">
              <a:lnSpc>
                <a:spcPts val="3600"/>
              </a:lnSpc>
              <a:tabLst>
                <a:tab algn="l" pos="0"/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1800" spc="-1" strike="noStrike">
                <a:solidFill>
                  <a:srgbClr val="1a1a1a"/>
                </a:solidFill>
                <a:latin typeface="Open Sans"/>
              </a:rPr>
              <a:t>Goal: to attend to suffering, of any kind, and improve quality of life</a:t>
            </a:r>
            <a:endParaRPr b="0" lang="en-US" sz="18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810" name="Oval 4"/>
          <p:cNvSpPr/>
          <p:nvPr/>
        </p:nvSpPr>
        <p:spPr>
          <a:xfrm>
            <a:off x="3352680" y="3352680"/>
            <a:ext cx="2210040" cy="2210040"/>
          </a:xfrm>
          <a:prstGeom prst="ellipse">
            <a:avLst/>
          </a:prstGeom>
          <a:solidFill>
            <a:srgbClr val="df006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811" name="Oval 3"/>
          <p:cNvSpPr/>
          <p:nvPr/>
        </p:nvSpPr>
        <p:spPr>
          <a:xfrm>
            <a:off x="2514600" y="1905120"/>
            <a:ext cx="2209680" cy="2209680"/>
          </a:xfrm>
          <a:prstGeom prst="ellipse">
            <a:avLst/>
          </a:prstGeom>
          <a:solidFill>
            <a:srgbClr val="604a7b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812" name="Oval 5"/>
          <p:cNvSpPr/>
          <p:nvPr/>
        </p:nvSpPr>
        <p:spPr>
          <a:xfrm>
            <a:off x="4191120" y="1905120"/>
            <a:ext cx="2209680" cy="2209680"/>
          </a:xfrm>
          <a:prstGeom prst="ellipse">
            <a:avLst/>
          </a:prstGeom>
          <a:solidFill>
            <a:srgbClr val="008bcb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813" name="Text Box 6"/>
          <p:cNvSpPr/>
          <p:nvPr/>
        </p:nvSpPr>
        <p:spPr>
          <a:xfrm>
            <a:off x="990720" y="1721160"/>
            <a:ext cx="152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Religion</a:t>
            </a:r>
            <a:endParaRPr b="0" lang="en-US" sz="22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814" name="Text Box 7"/>
          <p:cNvSpPr/>
          <p:nvPr/>
        </p:nvSpPr>
        <p:spPr>
          <a:xfrm>
            <a:off x="990720" y="5150160"/>
            <a:ext cx="1447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Society</a:t>
            </a:r>
            <a:endParaRPr b="0" lang="en-US" sz="22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815" name="Text Box 8"/>
          <p:cNvSpPr/>
          <p:nvPr/>
        </p:nvSpPr>
        <p:spPr>
          <a:xfrm>
            <a:off x="6553080" y="1723680"/>
            <a:ext cx="1676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Culture</a:t>
            </a:r>
            <a:endParaRPr b="0" lang="en-US" sz="22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816" name="Text Box 9"/>
          <p:cNvSpPr/>
          <p:nvPr/>
        </p:nvSpPr>
        <p:spPr>
          <a:xfrm>
            <a:off x="6248520" y="5150160"/>
            <a:ext cx="1981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Education</a:t>
            </a:r>
            <a:endParaRPr b="0" lang="en-US" sz="22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817" name="Text Box 10"/>
          <p:cNvSpPr/>
          <p:nvPr/>
        </p:nvSpPr>
        <p:spPr>
          <a:xfrm>
            <a:off x="3048120" y="2795400"/>
            <a:ext cx="1143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Body</a:t>
            </a:r>
            <a:endParaRPr b="0" lang="en-US" sz="22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818" name="Text Box 11"/>
          <p:cNvSpPr/>
          <p:nvPr/>
        </p:nvSpPr>
        <p:spPr>
          <a:xfrm>
            <a:off x="4686480" y="2795400"/>
            <a:ext cx="1218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Mind</a:t>
            </a:r>
            <a:endParaRPr b="0" lang="en-US" sz="22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819" name="Text Box 12"/>
          <p:cNvSpPr/>
          <p:nvPr/>
        </p:nvSpPr>
        <p:spPr>
          <a:xfrm>
            <a:off x="3924360" y="4242960"/>
            <a:ext cx="1066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Spirit</a:t>
            </a:r>
            <a:endParaRPr b="0" lang="en-US" sz="2200" spc="-1" strike="noStrike">
              <a:solidFill>
                <a:srgbClr val="1a1a1a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768240" y="438120"/>
            <a:ext cx="7586640" cy="83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Open Sans Semibold"/>
              </a:rPr>
              <a:t>Barriers to High Quality Palliative Care</a:t>
            </a: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821" name=""/>
          <p:cNvSpPr txBox="1"/>
          <p:nvPr/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-287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Personal 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  <a:p>
            <a:pPr lvl="1" marL="582480" indent="-9684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Emotionally difficult, taboos, resisting change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  <a:p>
            <a:pPr marL="287280" indent="-287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System 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  <a:p>
            <a:pPr lvl="1" marL="582480" indent="-9684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Access to services, reimbursement, fragmentation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  <a:p>
            <a:pPr marL="287280" indent="-287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Quality 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  <a:p>
            <a:pPr lvl="1" marL="582480" indent="-9684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Deficient education, lack of outcomes research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  <a:p>
            <a:pPr marL="287280" indent="-287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Technical 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  <a:p>
            <a:pPr lvl="1" marL="582480" indent="-9684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Lack of appropriate evaluation tools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  <a:p>
            <a:pPr marL="287280" indent="-287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01T21:01:03Z</dcterms:created>
  <dc:creator>SJCRH</dc:creator>
  <dc:description/>
  <dc:language>en-US</dc:language>
  <cp:lastModifiedBy>ruth</cp:lastModifiedBy>
  <dcterms:modified xsi:type="dcterms:W3CDTF">2015-06-15T09:50:54Z</dcterms:modified>
  <cp:revision>37</cp:revision>
  <dc:subject/>
  <dc:title>Palliative Care</dc:title>
</cp:coreProperties>
</file>